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241-72CF-45B0-AFF7-29CFEE9D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B3A-87A7-462D-A771-B457B51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BC8-C730-4507-9190-52F8DBA4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305-3A3E-4B00-8AEE-C701439C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8FD5-F527-47B0-A8C6-AB4E46CD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0A84-9E77-4F1F-8B0D-04778B44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22F5-B1E2-46BD-A2CC-ED01293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BE2C-868A-458A-941E-1CF07869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E55F-D989-4740-9AE5-CFAFE38B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D66E-8B2E-43A0-9BD8-5B879831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AFE-9061-401B-98BA-F9302DA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BE8-9922-48DB-B8D6-6F577C37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F28E-21E5-4AED-A33D-8C66E2B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598-3C7A-4B2D-B7F3-C784907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EB2-93E3-4C25-A9FD-EC30DD5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0D36-95DE-4711-B953-D058BDDA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529-7127-4A19-AB6A-01F5B61B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2CC-B17F-4A27-8E7C-6E50BD52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A80-3317-4371-B26D-BFC815D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0BC-9E33-4492-A8DA-63A9E3C2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FE7-4C6F-4BA0-9390-810E5AB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92B-6949-48F8-A245-F93E462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9A6-B9E5-4205-9625-2165A90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FB3-4C70-428E-A991-7BFAD4C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220-6352-4C5C-80CE-1F8075B13D8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9664-A8F2-40B7-BE5B-4EA045EC975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ipKSt9xW-Y" TargetMode="External"/><Relationship Id="rId2" Type="http://schemas.openxmlformats.org/officeDocument/2006/relationships/hyperlink" Target="http://www.youtube.com/watch?v=iBoPTbwZdi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9P4X9DtKQ8" TargetMode="External"/><Relationship Id="rId2" Type="http://schemas.openxmlformats.org/officeDocument/2006/relationships/hyperlink" Target="http://www.youtube.com/watch?v=8Ha0MnLZPZk" TargetMode="External"/><Relationship Id="rId3" Type="http://schemas.openxmlformats.org/officeDocument/2006/relationships/hyperlink" Target="http://www.youtube.com/watch?v=3jDNyqCMGFQ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deo Communic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y-Liz Guth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Video Commun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munications class for grades 9-12 that challenges students to transform and communicate their creative ideas through the medium of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yearlong, 1 credit major course (offered 6 of 6 letter da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yearlong, .5 credit minor course (offered 3 of 6 letter da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olest Class”    Girl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do Video Communication students produ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ight News and Knight Life: taped segments about education and school events and local and global issues that air on the daily announcements and on Monday nights, channel 2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Silent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on the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Service Announcements: anti-drug and other safety and social issue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top the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Film: any genre (con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 Video Comm. students produc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Issues Documentary: (con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ve/Resource Videos: produced for various departments or schoo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Lab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ertising: school ev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Coat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eace 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biographical/Biographical Videos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Hero               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ic Videos:  Don’t Wanna 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your school needs Video Communic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Communications increases students’ use of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Communications improves communication within the school and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6:25:06Z</dcterms:created>
  <dc:creator>guthierm</dc:creator>
  <dc:description/>
  <dc:language>en-US</dc:language>
  <cp:lastModifiedBy>guthierm</cp:lastModifiedBy>
  <dcterms:modified xsi:type="dcterms:W3CDTF">2011-01-11T02:39:34Z</dcterms:modified>
  <cp:revision>4</cp:revision>
  <dc:subject/>
  <dc:title>Video Communications</dc:title>
</cp:coreProperties>
</file>